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F1E7-1E5A-456F-9795-D1D4F79FC55B}" type="datetime">
              <a:rPr b="0" lang="cs-CZ" sz="1200" spc="-1" strike="noStrike">
                <a:solidFill>
                  <a:srgbClr val="000000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FA95-6E58-443A-9B0F-8126D2253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A397-5033-47A3-BA5C-83129A697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B1A-46F5-46AE-9835-FE8BCCDA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3939-05C7-420F-B410-967A6E16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63CC-7EEC-40DF-88CA-C25DD9C5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EDC-9D48-468F-B890-DFBDC114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835A-946D-4D01-82E5-F2BEC75A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223C-BAD9-437C-BDA3-553900D3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C9AB-2639-4961-91E6-9A6EF057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8835-F96D-4BC7-BF3F-1FC6E80D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66D1-FED9-4E47-81E2-26F100FD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A789-3AAF-4A6E-AE5B-FD8DE146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FF58-AAAD-44F8-8A02-26083E3C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474-8657-4CD5-8B87-31DB5036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2407-4BDD-4C28-9C77-5BA94204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C50C-AB56-4EF0-905A-5896925D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79F5-FD19-47D7-8014-2CC2DB1F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BDCA-630B-4E9D-A621-2D9F659D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D055-4DD6-4C7E-B8D1-830C1BB6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5F2B-4010-4DA3-9DF6-E2957023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816F7-8D95-4893-B477-93652805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25F9B-8431-4280-9CE3-218CD599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3027B-0BE8-4D2B-A819-D8E2B73D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37E7D-B065-4585-9D2B-C32C2475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5008-7A20-44FC-BC4E-096BCB23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4C59-D2E4-4B39-99A6-1061BF6E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13CA-4636-4FB3-B45B-B4BD3E52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56B2-8891-4559-A04B-05872E7A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4C374-D447-4EB1-B5B6-8F3C8378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0316F-6A56-487E-BF57-628F3CB6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B1D1-D5DD-465B-A4E8-F05B4F95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70F0C-5CCF-43F7-8C63-B1A1A42B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5E80A-F8C6-43EB-B74A-618D8662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1B749-D485-416A-9DF7-D5DB266D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A0E9C-AB10-4515-B0CC-4A809BE4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0B0-9728-4D63-B1B6-ECA1F97F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B4498-6A8E-4117-99D3-2625684B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3DFC-005A-4A9D-B4AA-C3711958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C2DA-EAFC-4E24-AA03-AF57D654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FCD83-DB7B-48E2-B59D-1B6459FE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1196C-816B-4486-9CB8-23FF83A5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EE1F8-0059-410F-86FF-A93B6468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7EBB-DDD9-4038-83F5-894B999F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A583-EA94-4A23-A68A-FCB9A781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B105B-0D44-4143-BF3B-5A9020CA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85944-29A6-48E7-A1C0-B7C024E8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DA4-EFFA-4F0A-86FE-C84CF6FC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D620-FB6F-48AA-B2AA-1E81C3F4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52F6E-824B-47A6-AC50-66BADC65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1FA2B-AD42-4294-BC68-6DA23359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FD08F-1C7C-48D0-B28C-B06ACC4B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6008D-5137-4075-BFFC-D6346F7F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EE82B-96DD-44EE-980B-0196EBED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5AE0B-98BA-4204-BA5A-1885509B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5B8AD-7CE1-423F-8552-A3EE160C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09708-ADA5-4B99-B767-0BEEC268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D7E5E-3D77-450A-9001-23D959EA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446-8412-45D1-B211-BB692CEA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6929C-C6D1-4385-B552-134B53C7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B7789-177B-4DC2-BDCD-487EDB59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8765C-00ED-45F8-B2BB-F5EDC9DC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08F2B-4FF4-4098-858C-4707C849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7F764-D870-48AF-A54A-A7A75F44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7456C-A90F-4EDE-AD2A-F2206192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2B807-0143-47AF-B3F3-CEADC09C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BB247-EAB3-4F35-AEBB-C76EFE1C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09ED-03A5-4F14-B6BD-09FBBFB2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9DE0-17EA-4DD9-9902-6FE55A20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600-A12C-45DE-B228-95CA9C2E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341E6-5F46-4C72-A05F-7BC55CE5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889E4-5DA3-482C-B118-EA6D1004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70907-4ED6-4A18-81CA-FCA97FD8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33364-D16D-4DDD-89E0-6BA0F1C7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76AF8-4CC8-44BA-94D5-BED0825E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2F1EB-0C8A-4C62-9AAB-9E925523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02F88-EFC8-4B8A-9A9A-42BA12BF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C48F4-2BDD-483B-B9A3-C901B785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C2299-B1A9-4E13-BCEB-21683FE4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69231-4B2F-444C-B83F-5D72E1D8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201-2D58-4E64-8062-300CB7EA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F0A68-9117-439F-A5C4-8D90FC86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F6524-F097-45F2-9671-CDBA8CD7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4D4DF-FAE5-4E9D-9816-8539EC03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EF9FA-DDE9-44F8-82A9-D61B7562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1D6B1-9D7A-4EE6-9E2A-E356C3AD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D7C-7F84-49C2-90AB-2DB4DE88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B232-2D04-4954-8C79-B4B2D7FE7186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787E-D05D-438D-97C1-76B04BB075F5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A5DF-FF6A-4E9D-B9A2-B5190F822C22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5DA5-7F3C-4A15-9C29-013F8C5CC0D9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2B33-A369-441B-ADA0-C2A7CF98D38D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6EFD-DE36-4B37-89D5-B07A8E975D5C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5C49-E190-46F9-8462-C33FD043599B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1797-EAB7-4AC0-B133-2B3B75B71D93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E8A6-05E3-4B14-9040-59466407A16B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0644-0589-46D2-B6D0-120970AB56DE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FF20-9446-4EBE-AA3B-74F3C95590FD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78E7-5118-43BD-BB64-478B779C4E28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2F97-3599-4238-87C2-9617DF813364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9FAB-145C-462D-A226-9E41A4BE9DEA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Osteopor&#243;za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Dystrofie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Nekr&#243;za" TargetMode="External"/><Relationship Id="rId2" Type="http://schemas.openxmlformats.org/officeDocument/2006/relationships/hyperlink" Target="http://www.wikiskripta.eu/index.php/Nekr&#243;za" TargetMode="External"/><Relationship Id="rId3" Type="http://schemas.openxmlformats.org/officeDocument/2006/relationships/hyperlink" Target="http://www.wikiskripta.eu/index.php/Nekr&#243;za" TargetMode="External"/><Relationship Id="rId4" Type="http://schemas.openxmlformats.org/officeDocument/2006/relationships/hyperlink" Target="http://www.wikiskripta.eu/index.php/Atrofie" TargetMode="External"/><Relationship Id="rId5" Type="http://schemas.openxmlformats.org/officeDocument/2006/relationships/hyperlink" Target="http://www.wikiskripta.eu/index.php/Dystrofie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asp.upol.cz/index.php?option=com_content&amp;view=article&amp;id=48:nekroza&amp;catid=8:regresivni-a-metabolicke-zmny&amp;Itemid=4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k.wikipedia.org/wiki/Gangr&#233;na" TargetMode="External"/><Relationship Id="rId2" Type="http://schemas.openxmlformats.org/officeDocument/2006/relationships/hyperlink" Target="http://en.wikipedia.org/wiki/Gangrene" TargetMode="External"/><Relationship Id="rId3" Type="http://schemas.openxmlformats.org/officeDocument/2006/relationships/hyperlink" Target="http://cs.wikipedia.org/wiki/Gangr&#233;na" TargetMode="External"/><Relationship Id="rId4" Type="http://schemas.openxmlformats.org/officeDocument/2006/relationships/hyperlink" Target="http://en.wikipedia.org/wiki/Gas_gangrene" TargetMode="External"/><Relationship Id="rId5" Type="http://schemas.openxmlformats.org/officeDocument/2006/relationships/hyperlink" Target="http://www.ligamed.at/html/dekubitus.html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Atrofie" TargetMode="External"/><Relationship Id="rId2" Type="http://schemas.openxmlformats.org/officeDocument/2006/relationships/hyperlink" Target="http://cs.wikipedia.org/wiki/Soubor:Polio_lores134.jpg" TargetMode="External"/><Relationship Id="rId3" Type="http://schemas.openxmlformats.org/officeDocument/2006/relationships/hyperlink" Target="http://cs.wikipedia.org/wiki/Soubor:Pick%27s_disease.pn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755640" y="5373720"/>
            <a:ext cx="7488360" cy="1224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446256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rbel"/>
              </a:rPr>
              <a:t>Název školy: Střední zdravotnická škola a vyšší odborná škola zdravotnická Karlovy Vary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1" lang="cs-CZ" sz="24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 Black"/>
              </a:rPr>
              <a:t>Regresivní a metabolické změny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1" lang="cs-CZ" sz="2400" spc="-1" strike="noStrike">
                <a:solidFill>
                  <a:srgbClr val="ffffff"/>
                </a:solidFill>
                <a:latin typeface="Arial Black"/>
              </a:rPr>
              <a:t>VY_32_INOVACE_KLN.2.09a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1" lang="cs-CZ" sz="2400" spc="-1" strike="noStrike">
                <a:solidFill>
                  <a:srgbClr val="ffffff"/>
                </a:solidFill>
                <a:latin typeface="Arial Black"/>
              </a:rPr>
              <a:t>26.11.201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1" lang="cs-CZ" sz="24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1" lang="cs-CZ" sz="2400" spc="-1" strike="noStrike">
                <a:solidFill>
                  <a:srgbClr val="ffffff"/>
                </a:solidFill>
                <a:latin typeface="Arial Black"/>
              </a:rPr>
              <a:t>Veronika Rausová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09 zahrnuje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Arial"/>
              </a:rPr>
              <a:t>výklad pojmů: regresivní změny, nekrózy, změněné nekrózy, atrofie, dystrofie, popruchy metabolismu cukrů, tuků, bílkovin, minerálů, vody a vrozené metabolické vady. Přiložen je seznam otázek k zopakování tématu a součástí setu je Test IV – Regresivní změny a Test V – Diabetes mellitu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Druhy atrofie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Prost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= zmenšování objemu buněk, zůstává jich stejný počet, zmenšuje se jádro, ubývá tukových a glykogenových zásob v buň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= často tzv. </a:t>
            </a:r>
            <a:r>
              <a:rPr b="0" i="1" lang="cs-CZ" sz="2800" spc="-1" strike="noStrike">
                <a:solidFill>
                  <a:srgbClr val="000000"/>
                </a:solidFill>
                <a:latin typeface="Corbel"/>
              </a:rPr>
              <a:t>atrophia fusca 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– tkáň je hnědě zbarvena lipofuscinem (tzv. pigmentem z opotřebení) – zejm. u svalů a ja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Druhy atrofi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umerick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= ubývání buněk ve tkáni (často kůže, kostní dřeň, pohlavní žlázy, kost – 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osteoporóza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Důvody atrofi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edostatečný přísun živin (až kachexi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Fyziologická atrofie (brzlíku, po klimakteriu a. dělohy, vaječníků, mléčné žláz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askulární – z postupného uzávěru přívodných tepen – ischem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Tlakov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radiač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 inaktivit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3. Dystrofi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f.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Dystrofi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je nejmírnější stupeň regre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ejí podstatou je porucha metabolism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„metabolismus?“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přeměna látek v živém organism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v těle metabolizuj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ukry, tuky, bílkoviny, voda, minerá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metabolismu CUKRŮ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iabetes mellitus I. typu – juvenilní = IDD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ibetes mellitus  II. typu – adultní, inzulin-rezistentní – INDD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http://www.onhb.cz/article.asp?nArticleID=16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Glykogenóz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http://www.wikiskripta.eu/index.php/Glykogen%C3%B3zy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metabolismu TUKŮ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teatóz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http://www.wikiskripta.eu/index.php/Steat%C3%B3z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metabolismu BÍLKOVIN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yalinní přeměna vaziv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myloidózy (lokální, generalizované) – ukládání nerozpustného amyloidu v cévách, ledvinách (selhání), srdci, střevech (malabsorbce), mozku (Alzheimerova choroba        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http://tema.novinky.cz/alzheimerova-choroba 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http://www.wikiskripta.eu/index.php/Amyloid%C3%B3za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metabolismu MINERÁLŮ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apř. C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Hyperkalcémie ( &gt;metastatická kalcifik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tkání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Hyperkalcemie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poruchy vstřebávání Ca z nedostatku vit. D (&gt; demineralizace kostí, osteoporóza, rachitida = křivice  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http://www.wikiskripta.eu/index.php/Rachitis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, osteomalacie, renální osteodystrofi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ypokalcémie ( &gt; tetanie = křeče)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Hypokalc%C3%A9mi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metabolismu VOD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ehydrat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yperhydrat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Vrozené metabolické vad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rozmanitá skupina většinou vzácných poruch metabolismu některých látek (lipidózy, glykogenózy, mukopolysacharidózy &gt; v buňkách neschopných metabolizovat určitou látku se tato látka střádá = 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tezaurismózy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) a buňky poškozuj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Fenylketonurie, albinismus, familiární hypercholesterolémie, defekty metabolismu bilirubinu – Gilbertova choroba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32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. 1. vyd. Praha: Grada, 2004. ISBN 80-247-0785-3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32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pomocných mechanismů metabolismu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orbel"/>
              </a:rPr>
              <a:t>Litiázy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 = vysrážení krystalů = „kamenů“ (cholelitiáza, urolitiáza, sialolitiáza, pankreatolitiáza…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o může způsobit, proč vadí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orbel"/>
              </a:rPr>
              <a:t>Patologické pigmentace 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– ukládání endogenních autogenních (melanin – při různých chorobách, nádorech)  a hematogenních (bilirubin, str. 38-41) , exogenních (tatoo, pneumokoniózy) pigmentů ve tkání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+ Albinismus – úplné chybění pigmentů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Co j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Regr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Nekróz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Gangrén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Atrof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Dystrof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Dehydrata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Hyperhydrat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Steatóz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Amyloidóz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REGRESIVNÍ A METABOLICKÉ ZMĚNY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Co jsou regresivní změny?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Regrese = návrat zpět = snížení životaschopnosti tkání a buně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1. =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NEKRÓZY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(odumření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2. =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ATROFI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zmenšení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3. =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DYSTROFI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metabolické změny, přeměn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1. Nekróza - typ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koagulační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vysrážení bílkovin &gt;suchá ve svalech, kůži…, ev. kazeózní při TBC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kolikvační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enzymatické zkapalnění &gt;kašovitý rozpad tkání např. mozku, pankreatu…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pasp.upol.cz/index.php?option=com_content&amp;view=article&amp;id=48:nekroza&amp;catid=8:regresivni-a-metabolicke-zmny&amp;Itemid=4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Reakce organismu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lvl="1"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orbel"/>
              </a:rPr>
              <a:t>Regenerace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  = nekróza nahrazena původní tkání – u člověka vzácně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orbel"/>
              </a:rPr>
              <a:t>Reparace</a:t>
            </a: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= </a:t>
            </a: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zánětlivá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 (tj. úklidová)</a:t>
            </a: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 reakce 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v místě nekrózy a </a:t>
            </a: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zhojení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3440" indent="-315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Jizvou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 (po reparaci koagulační nekrózy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3440" indent="-315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Pseudocystou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 (po reparaci kolikvační nekrózy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3440" indent="-315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Kalcifikací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 (ukládání Ca v místech kazeózní nekrózy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orbel"/>
              </a:rPr>
              <a:t>Smr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33440" indent="-315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říčiny nekróz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Mechanick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Tepeln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áře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hemick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nfekč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schem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Změněné nekróz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Gangré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Suchá 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Vlhká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Plynatá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ekubit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http://www.ligamed.at/html/dekubitus.htm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2. Atrofi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trofie j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zmenšení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  původně normálně velkých orgánů, tkání, buně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wikiskripta.eu/index.php/Atrof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cs.wikipedia.org/wiki/Soubor:Polio_lores134.jp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cs.wikipedia.org/wiki/Soubor:Pick%27s_disease.p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0T15:57:48Z</dcterms:created>
  <dc:creator>Veronika</dc:creator>
  <dc:description/>
  <dc:language>en-US</dc:language>
  <cp:lastModifiedBy>Chalupna</cp:lastModifiedBy>
  <dcterms:modified xsi:type="dcterms:W3CDTF">2014-03-31T20:55:15Z</dcterms:modified>
  <cp:revision>21</cp:revision>
  <dc:subject/>
  <dc:title>Název školy: Střední zdravotnická škola a vyšší odborná škola zdravotnická Karlovy Vary Číslo projektu: CZ.1.07/1.5.00/34.0953 Vzdělávací materiál: Regresivní a metabolické změny Šablona III/2 Inovace a zkvalitnění výuky prostřednictvím ICT Název materiálu: VY_32_INOVACE_KLN.2.09 Datum tvorby: 1.10.2013 Vyučovací předmět, ročník, obor: KLN, 2. ročník, Nutriční asistent Autor: Mgr. Veronika Rausová Anotace: Vzdělávací materiál obsahuje výukovou prezentaci zahrnující úvod do předmětu Klinika nemocí / patologie. Obsahuje přehled základního názvosloví a vymezení předmětu.</dc:title>
</cp:coreProperties>
</file>